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A1E-194C-4AA2-BB51-CE41A475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670-89EE-40C5-83F8-9AA2FC7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232-2BE6-4443-9C76-9530DF30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3CF-9397-450B-B85C-3B02D5D0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4DD-354E-4A9F-80F8-2BB5D922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F7A-223E-48BF-85BE-3EB8B9AA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397-ED6F-4B9D-A6F9-EDA1D250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50E-6466-4A64-A8B6-12645CD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EF8-BC66-4A90-9CAA-A1125361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951-74FB-46CE-9101-6BBDAA5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022-7648-4BC9-AD28-426BE3E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08E-A97D-464B-81A5-167422D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2193-1C44-43A6-B864-57C841F1B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已申请父子帐号功能的用户访问到有害网站时，用户会看到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提升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功能的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两次输入的新密码不一样时，会提示用户密码不统一，并需要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0" y="274680"/>
            <a:ext cx="3600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密码修改成功，系统会提示用户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成功，从现在开始请使用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“的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11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继续访问该网页，则点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认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按钮，进行身份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1640" y="333000"/>
            <a:ext cx="2881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进入认证模式后，会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示帐户，同时需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户填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密码</a:t>
            </a: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，进行身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确认。并有相应问题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宋体"/>
              </a:rPr>
              <a:t>答提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68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620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密码不正确则会出现“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您输入的密码错误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的相应提示。并通知用户重新输入密码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04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8000" y="475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密码输入正确，会给用户相应提示通知用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权限认证成功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一小时内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就可以不受限制访问网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440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想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有两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一种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“权限提升页面”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5905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第二种方法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在以下页面中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修改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进行密码的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0000" y="764640"/>
            <a:ext cx="338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当用户进入到密码修改页面后，需要用户填入原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并需要对新密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进行确认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以保证用户密码不被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38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如果用户输入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旧密码不正确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或者输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新密码两次不符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，会提示用户输入密码错误，并请用户重新输入密码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此时点击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返回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”按钮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6:06:58Z</dcterms:created>
  <dc:creator> </dc:creator>
  <dc:description/>
  <dc:language>en-US</dc:language>
  <cp:lastModifiedBy>FtpDown</cp:lastModifiedBy>
  <dcterms:modified xsi:type="dcterms:W3CDTF">2005-02-24T01:51:02Z</dcterms:modified>
  <cp:revision>47</cp:revision>
  <dc:subject/>
  <dc:title>幻灯片 1</dc:title>
</cp:coreProperties>
</file>