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68E-A396-43F7-B149-F9A139D5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A11-18D1-4EA8-A502-38269AB9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7F1-89FA-411C-8210-B38D26D0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601-3FDC-43FA-AF35-6E9E24BA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0E0-4607-4201-91DF-218181B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242-BCE6-458F-B0B4-9E632438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1A7-A85A-48C0-B4CE-3F6395D1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CC0-4F94-49A6-8290-03BD3520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288-0428-4461-8248-9B8B5C12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008-CE56-4989-9944-66B34E7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311-27D8-4F52-8DD1-D1A506BC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0B5-5EE6-4B84-8794-8B75327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5CBD-AF0A-4ECD-8B5F-17E8C0932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已申请父子帐号功能的用户访问到有害网站时，用户会看到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提升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功能的页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两次输入的新密码不一样时，会提示用户密码不统一，并需要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6007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密码修改成功，系统会提示用户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成功，从现在开始请使用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“的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11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继续访问该网页，则点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认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按钮，进行身份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11640" y="333000"/>
            <a:ext cx="2881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进入认证模式后，会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示帐户，同时需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户填入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密码</a:t>
            </a: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，进行身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确认。并有相应问题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答提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688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35640" y="62028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密码不正确则会出现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您输入的密码错误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的相应提示。并通知用户重新输入密码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04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8000" y="475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密码输入正确，会给用户相应提示通知用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认证成功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一小时内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就可以不受限制访问网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02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34400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有两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一种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“权限提升页面”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二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以下页面中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0000" y="764640"/>
            <a:ext cx="3384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进入到密码修改页面后，需要用户填入原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并需要对新密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进行确认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以保证用户密码不被盗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1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360" y="260280"/>
            <a:ext cx="3384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不正确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或者输入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两次不符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会提示用户输入密码错误，并请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6:06:58Z</dcterms:created>
  <dc:creator> </dc:creator>
  <dc:description/>
  <dc:language>en-US</dc:language>
  <cp:lastModifiedBy>FtpDown</cp:lastModifiedBy>
  <dcterms:modified xsi:type="dcterms:W3CDTF">2005-02-24T01:51:02Z</dcterms:modified>
  <cp:revision>47</cp:revision>
  <dc:subject/>
  <dc:title>幻灯片 1</dc:title>
</cp:coreProperties>
</file>