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9D4B-9106-4091-8CBA-8514300A6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D6F9-7C48-4E73-B8CE-91B14E55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CDB3-0C7C-49FB-8075-0D8289A3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B1DD-2610-467E-8EE9-5B86A8BB8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9ED3-951B-4DD1-8296-70814D0D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E8FF-CAB9-4D07-987F-16033DDA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E463-A308-4A80-BEC9-C82DD0C3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072D-ECE2-4E1F-839B-310BA780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27B6-8EB7-412D-B3C7-6291892C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0757-B21D-42B0-B515-5CE20653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CFBF-F482-4BAA-A88C-FBACF403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EFF1-4C35-40A8-B2E2-76BDD62D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5880-0BAA-4704-9D1D-3F45FA5642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当已申请父子帐号功能的用户访问到有害网站时，用户会看到带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权限提升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功能的页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80360" cy="55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92720" y="33300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当用户两次输入的新密码不一样时，会提示用户密码不统一，并需要用户重新输入密码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此时点击”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返回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”按钮即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8974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64000" y="274680"/>
            <a:ext cx="36007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当用户密码修改成功，系统会提示用户”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修改密码成功，从现在开始请使用新密码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“的信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51116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如果用户想继续访问该网页，则点击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认证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按钮，进行身份转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81360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011640" y="333000"/>
            <a:ext cx="2881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宋体"/>
              </a:rPr>
              <a:t>进入认证模式后，会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宋体"/>
              </a:rPr>
              <a:t>示帐户，同时需要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宋体"/>
              </a:rPr>
              <a:t>户填入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密码</a:t>
            </a:r>
            <a:r>
              <a:rPr b="0" lang="zh-CN" sz="1800" spc="-1" strike="noStrike">
                <a:solidFill>
                  <a:srgbClr val="009999"/>
                </a:solidFill>
                <a:latin typeface="宋体"/>
              </a:rPr>
              <a:t>，进行身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宋体"/>
              </a:rPr>
              <a:t>确认。并有相应问题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宋体"/>
              </a:rPr>
              <a:t>答提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56880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35640" y="620280"/>
            <a:ext cx="339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如果用户输入密码不正确则会出现“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您输入的密码错误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”的相应提示。并通知用户重新输入密码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5040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8000" y="4759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如果用户密码输入正确，会给用户相应提示通知用户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权限认证成功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，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在一小时内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 就可以不受限制访问网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0022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344000" cy="5400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360" y="189000"/>
            <a:ext cx="59054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如果用户想修改密码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有两种方法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: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第一种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在“权限提升页面”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点击”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修改密码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”按钮进行密码的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360" y="189000"/>
            <a:ext cx="59054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第二种方法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在以下页面中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点击”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修改密码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”按钮进行密码的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49780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80000" y="764640"/>
            <a:ext cx="338472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当用户进入到密码修改页面后，需要用户填入原来的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旧密码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和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新密码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。并需要对新密码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进行确认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。以保证用户密码不被盗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51847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360" y="260280"/>
            <a:ext cx="33843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如果用户输入的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旧密码不正确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或者输入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新密码两次不符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，会提示用户输入密码错误，并请用户重新输入密码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此时点击”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返回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”按钮即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5184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6:06:58Z</dcterms:created>
  <dc:creator> </dc:creator>
  <dc:description/>
  <dc:language>en-US</dc:language>
  <cp:lastModifiedBy>FtpDown</cp:lastModifiedBy>
  <dcterms:modified xsi:type="dcterms:W3CDTF">2005-02-24T01:51:02Z</dcterms:modified>
  <cp:revision>47</cp:revision>
  <dc:subject/>
  <dc:title>幻灯片 1</dc:title>
</cp:coreProperties>
</file>